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148-0941-4750-A7A4-5A7EC9A7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3DA-6C49-4222-8AA8-5A425764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1E2-6B1B-4BAF-9123-0AADF883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6AF-F22D-4B9B-9B2F-D85EE7C6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4E3C-7B4A-479D-9651-EEDB3EB3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F3D4-E9D2-458C-A292-A001E67D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5B74-36F2-4415-9299-ACD599CA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4437-F353-47FD-A6A5-0AFA5A13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881A-C1FC-48DE-873F-A2B3B8CF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4662-D2F1-413B-92E0-04F7EEC8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9547-D357-402A-BC36-3A5B9CE0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D33-1736-449C-B863-3D53B03E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A1D5-CF52-41CD-A5A6-9301423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0AD0-A48E-42EC-A776-02DEB9C7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1197-760D-40FB-963C-01F7D0D7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BFE1-BBEE-4941-BD28-C3BC0D1B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2188-45B2-45B7-AC20-A271FE87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1775F-4522-4064-99E4-1B313FE2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E5B01-DD81-4163-8942-DB877714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59F32-8EA6-4719-A31F-EFECFCAC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9C0F5-77C3-4D8B-9FEE-5604FA92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0801C-C278-453E-8AC4-550FE5E1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FC3-5D59-44E1-8F6E-5E7B3FEA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DA2C7-B6B9-4ECF-BE7A-F5BE19B3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CC6B8-B47F-4ED4-BCCD-9E0E4BAB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D1624-90B5-4BA8-BE39-9626204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5FF3A-E3CB-477D-83EB-BC8BB40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3310B-BFFA-4ECF-A90B-2262CCDC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0E3CA-08B2-4325-988F-10176430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33B5F-9E82-42D7-BA03-FCC9C9B4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DFCE-3FF9-4EEF-9642-E467A224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BA0BA-9982-49F5-9C36-DCA30587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13F2-E002-41F9-A593-84FB9F9E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D15-CC1D-476B-9F80-3677CB17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7726-FB89-4560-8009-825C7461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40425-F1BD-4A1A-9265-CB6EC46E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6C83-BD07-46DA-BEDC-762E278B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999F-EE10-4936-8EA0-BDC47868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D85D5-2068-4FEF-8721-DC2B5ADD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17E1-79E6-4A68-B7C9-DE19DE00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2023-4D8B-4E2A-A784-6AE8A952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D5BB7-D35A-4DCE-95D3-26CF857E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21EA7-E233-4682-93C0-1BF0B81C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EDD51-DE4D-4434-89C2-FB3B8487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437-2437-47B9-A9A3-7E326292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E25C5-FC26-4642-9DCA-64E30844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33015-4899-49A6-920B-77D93F48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3EE97-1655-4983-94D3-ACDB242A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3A650-8116-46DD-B0BF-2181D97D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08323-D222-498B-8591-E6704127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AB0BE-DC1B-4DB7-A80A-F1739752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1FFE8-2D37-4FE1-B399-7F581310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AB2DC-F6D5-4B58-A0E8-D1D47F7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7A1C1-C0F9-42C9-A97E-36DE4EA1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B99F1-A931-429E-883C-5F6E7F8A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81B-BE28-4085-BA5B-8DED9EBD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48FA2-4CA3-4306-BE0A-4E4E9F5C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3DAA5-2C30-4AB8-A396-8028AE65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C9268-AF6F-4035-AA7B-95A52C40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CB4D8-76C1-42F1-B351-541786B1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9409D-4ADE-4F4E-8C04-23F9CF9D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9A597-C2EF-46C5-9873-50146BBD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6DF81-329B-480E-85C3-118970A1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61961-E17C-4665-90FC-86AEBE4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24653-E05A-4B3D-9D83-D21D5EE2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4DD8A2-D796-45E8-993A-D941FC7C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56F-0B9E-4701-98BB-91A8E27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2959F-F3DD-4446-B94B-677EF140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7A849-C72B-49C8-958B-3141478A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1C866-4183-4338-889E-4168DA71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71E7C-7253-4A94-B0DB-4A8A6C7F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D6A18-55FC-4174-A5DE-5486D30F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848916-0C4C-454F-8FAE-429B764C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A4939-96B1-4828-A0ED-976BFD3D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22F76-AB94-43EB-A1F1-F33031C2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EBBA9-157B-435D-9590-7761E4D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54C1B-C196-4C50-9C55-E41933A0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DD5-8EAE-4671-84D7-DFC790AD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3CFBA-F414-44BB-91FD-8DBC1424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08771-6F60-4157-8EE3-7D7C15E1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480EC-0C7B-46EA-9E16-79DDBA74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9EEFB-6564-4373-8D13-501210F4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675FEE-5D08-4979-B042-DE84A389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F91-CB41-40B6-B7B9-B22515EE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766F-ACD6-420D-B32F-19ECD8B885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90D-0005-4FFD-92C3-ED57E4679D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8ECD-F3AA-4257-869A-273224E8A9F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2714-7520-410C-9F9B-B498C022C8E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5144-648F-47A5-9C0F-0E859B2BF9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57D7-E1E9-440E-8608-937FABEA85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E1A9-1F05-4444-A44C-849B79D5F1F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DJECTIVES AND VERB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Parts of Speech, Part 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DJECTIVES ARE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ords that describe or provide more information about noun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ften precede a nou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EWARE quanity adjectives like many, few, some, an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EWARE adjectives that follow linking verb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ou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nglis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lassroom,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raders always work har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ickey sits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ide of the classroo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oung Jeezy put ou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lbum with some stro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olitic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de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ACTICE: YOUR TUR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are the nouns in these sentenc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hateesha, a world-class speller, won a difficult conte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tty Tarneshia always wears a pleasant smile on her fa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hefany’s soft voice often convinces Roberto to hurry to English cla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have three tardies, you will receive a 30-minute detention after school with Ms. Lemk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e will make you stamp raffle tickets and hole-punch class handou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S ARE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action word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in the sentence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hey can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ange tense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(i.e., 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sang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, 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sing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hey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help other verbs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(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m singing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, 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was singing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, 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will be singing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’S THE DIFFERENC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lvin and Cesar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ac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o the ball. The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ough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or the rebound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rappl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ith one another. Finally, Ces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natche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all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ribble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wa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lv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a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mazing. His sp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a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ressive when 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as dribbl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e bal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s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areful. 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ee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ary of his opponents when 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s guard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ction Verbs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Linking Verb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ACTICE: YOUR TUR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are the verbs in these sentenc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stity knows that she will be a great cheerleader because she practices hard and makes her body stro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yonce appeared in public wearing her wedding ring for the first ti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itney, Kanye, Rihanna and TI all performed at the VMAs. They performed so well that they impressed 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court sentenced T.I. to one year in jail. Police caught him with illegal firearms and marijua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NKING AND HELPING VERBS: A LI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elping verb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is, am, are, was, were, do, does, did, be, being, been, has, have, had, shall, will, should, would, may, might, must, can, coul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b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is, am, are, was, were, has been, have been, had been,  is being, are being, was being, will have been, etc.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bec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become, becomes, became, has become, have become, had become, will become, will have become, etc.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see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seemed, seeming, seems, has seemed, have seemed, had seemed, is seeming, are seeming, was seeming, were seeming, will see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MEMBER: A LINKING VERB CONNECTS A NOUN AND ADJECTIV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rius seems happy when he gets her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hontiara was joyful about his test grad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arkia is dedicated to her classwork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oberto becomes quiet as soon as class begin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MEMBER: A HELPING VERB BUDDIES UP WITH ANOTHER VER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s. Lemke should have used sunscreen on Sunday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andra has done well on her unit exa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Beaulah might be signing autographs for all of us one day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omeone could have made 100% on the unit exa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12:38Z</dcterms:created>
  <dc:creator>Heather N. Lemke</dc:creator>
  <dc:description/>
  <dc:language>en-US</dc:language>
  <cp:lastModifiedBy>Carolynn</cp:lastModifiedBy>
  <dcterms:modified xsi:type="dcterms:W3CDTF">2008-09-23T21:22:30Z</dcterms:modified>
  <cp:revision>11</cp:revision>
  <dc:subject/>
  <dc:title>Nouns &amp;Pronouns</dc:title>
</cp:coreProperties>
</file>